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4.jpeg" ContentType="image/jpeg"/>
  <Override PartName="/ppt/media/image21.jpeg" ContentType="image/jpeg"/>
  <Override PartName="/ppt/media/image2.wmf" ContentType="image/x-wmf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6.jpeg" ContentType="image/jpeg"/>
  <Override PartName="/ppt/media/image7.png" ContentType="image/png"/>
  <Override PartName="/ppt/media/image34.jpeg" ContentType="image/jpeg"/>
  <Override PartName="/ppt/media/image10.png" ContentType="image/png"/>
  <Override PartName="/ppt/media/image30.png" ContentType="image/png"/>
  <Override PartName="/ppt/media/image8.jpeg" ContentType="image/jpeg"/>
  <Override PartName="/ppt/media/image29.wmf" ContentType="image/x-wmf"/>
  <Override PartName="/ppt/media/image11.png" ContentType="image/png"/>
  <Override PartName="/ppt/media/image31.jpeg" ContentType="image/jpeg"/>
  <Override PartName="/ppt/media/image38.wmf" ContentType="image/x-wmf"/>
  <Override PartName="/ppt/media/image4.jpeg" ContentType="image/jpeg"/>
  <Override PartName="/ppt/media/image32.png" ContentType="image/png"/>
  <Override PartName="/ppt/media/image25.jpeg" ContentType="image/jpeg"/>
  <Override PartName="/ppt/media/image33.png" ContentType="image/png"/>
  <Override PartName="/ppt/media/image14.jpeg" ContentType="image/jpeg"/>
  <Override PartName="/ppt/media/image1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22.jpeg" ContentType="image/jpeg"/>
  <Override PartName="/ppt/media/image9.png" ContentType="image/png"/>
  <Override PartName="/ppt/media/image37.wmf" ContentType="image/x-wmf"/>
  <Override PartName="/ppt/media/image17.png" ContentType="image/png"/>
  <Override PartName="/ppt/media/image39.wmf" ContentType="image/x-wmf"/>
  <Override PartName="/ppt/media/image13.jpeg" ContentType="image/jpeg"/>
  <Override PartName="/ppt/media/image23.png" ContentType="image/png"/>
  <Override PartName="/ppt/media/image3.wmf" ContentType="image/x-wmf"/>
  <Override PartName="/ppt/media/image15.jpeg" ContentType="image/jpeg"/>
  <Override PartName="/ppt/media/image1.wmf" ContentType="image/x-wmf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180F7-CC9C-46E1-B2E1-CCA34C3792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845AB-3719-4979-917D-B5D9B71D4E9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F4B28-8AD0-40FD-B295-59D8229EC3B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ileo  being  launc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45916-AB64-4603-9602-4CFF2AB9778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p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CEE0A-16DD-451F-9A58-CA65399BE14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piter and  its  moon,  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E95C3-63BA-485E-8BD8-6DA57856F41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al  Moons  of  Jupiter  </a:t>
            </a:r>
            <a:br>
              <a:rPr sz="12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43  are  name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1C3FA-73E0-4B5B-B669-003B33C9215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n --  view  from  Hub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B39B0-8392-4A29-8756-1CB1AA15042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n --  view  from  Hub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6FC6C-F433-489A-93BD-73B99BB52DA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yager  spacecra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17722-BE80-4A4D-8A99-6C44D832857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-rings  of  Sa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619C4-9A6C-4B75-AE4A-95B04A070F1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eroids   Gaspra  &amp;  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FE305-321D-4B21-8C8B-917D98EC54A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an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78441-A2BA-4B61-9220-50402D83214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 Global Surveyor (MG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6  to 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0,000  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7E6E4-CA55-4A37-B4D1-9754C0AB2FF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bble  Space  Tele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2CF96-D177-4DC0-9BF8-D65863ECEE7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CDC1C-78BE-4E37-ABCD-D18CC518388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CF0EE-22FA-4557-BE8D-A0C4451B356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uds  above  Neptu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B949D-8CDD-4206-8A0A-4565357900F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ton -- one  of  Neptune’s  mo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240CC-9439-4F0F-B887-78E5515F8F1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tune  N-r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EC2CD-FC56-4DFA-9CE9-4733378048C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to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 photograph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F2F69-AA42-473D-9DE2-8E877A2C3DD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to  and  its  satellite,  Cha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73B73-1D82-4DA4-BB75-DADF6226D03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23178-E436-482A-B380-D5E88AD1AED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  photo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00172-1CC3-4B34-839D-87DC62A8103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3C85D-1B1D-4E08-B8F1-531E98017DA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53E44-4237-4E48-8A0A-73AE7AF5C4F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 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FB578-E2D4-4E0E-9EB2-61B208681A8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ympus M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st  volcano  in  solar 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F5F31-3C83-4D13-82A7-222E5474928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D generated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3FBB1-74D0-4A65-9FEC-5AC6DEABE9D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les  Mari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B25C-6FEC-4DBB-80D0-746CF9FAC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D8B0-215D-4FC6-ADBC-D4FE2D30C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CBAD-0F38-4D14-82BF-86B33F088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CFD7-09F2-40FE-A224-A43D6F233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95BE9-BDC9-4A90-B26E-D80591B85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A6913-C3EB-4A08-9CD4-E5543A7B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E06FC-85C5-4F39-A0E4-7A311DF3D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B0389-BA14-4B1B-847A-D427AFADC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800FF-0FDA-495C-A9B8-764CE5BBD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915F7-765F-4CC2-A62C-CAAE56F5E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E5543-CB5A-49EB-98F5-7E5371258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ACC0-3DBF-4810-9BB5-4EF84BE1A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9434E-EE7F-4793-B231-8BB098F7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F8721-2F34-4B4F-A6ED-BE1EE45A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1BC8C-C819-41FD-BA44-8C739A7BD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1DFA4-AAF3-4CB8-BEB4-00536FAD2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AD1CA-1B94-48A6-B6C6-325B80F0D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CC03-CA18-4464-980A-418603ED1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D53D-7BE9-446C-8BAE-1468E0FB3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9117-31EF-4FDC-8BC5-56D897153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9E29-0B3D-4EE0-BC84-87763E75F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9AD9-98A6-40C6-8CC5-D67180B1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4E75-8E2A-4D5B-B347-9CCB07A6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C001-34D1-4794-A293-5E851AE7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D2653-5588-4A50-B146-3B8F0A658C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2A28F-F940-45D1-9F0C-D583B5C9DE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09320" y="1143000"/>
            <a:ext cx="67057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t 2 of Solar Syst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0" name="Picture 4" descr="j0397524"/>
          <p:cNvPicPr/>
          <p:nvPr/>
        </p:nvPicPr>
        <p:blipFill>
          <a:blip r:embed="rId1"/>
          <a:stretch/>
        </p:blipFill>
        <p:spPr>
          <a:xfrm rot="327000">
            <a:off x="6933960" y="4800600"/>
            <a:ext cx="1827000" cy="1400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j0304259"/>
          <p:cNvPicPr/>
          <p:nvPr/>
        </p:nvPicPr>
        <p:blipFill>
          <a:blip r:embed="rId2"/>
          <a:stretch/>
        </p:blipFill>
        <p:spPr>
          <a:xfrm>
            <a:off x="380880" y="4419720"/>
            <a:ext cx="1792440" cy="1796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j0304245"/>
          <p:cNvPicPr/>
          <p:nvPr/>
        </p:nvPicPr>
        <p:blipFill>
          <a:blip r:embed="rId3"/>
          <a:stretch/>
        </p:blipFill>
        <p:spPr>
          <a:xfrm>
            <a:off x="152280" y="380880"/>
            <a:ext cx="179568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0" y="380880"/>
            <a:ext cx="4114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alileo  being  launch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6" name="Picture 3" descr="galileo"/>
          <p:cNvPicPr/>
          <p:nvPr/>
        </p:nvPicPr>
        <p:blipFill>
          <a:blip r:embed="rId1"/>
          <a:stretch/>
        </p:blipFill>
        <p:spPr>
          <a:xfrm>
            <a:off x="152280" y="685800"/>
            <a:ext cx="4559400" cy="549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2209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upit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8" name="Picture 3" descr="Jupiter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64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236232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upiter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nd  its  moon,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I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0" name="Picture 3" descr="Jupiter+Io"/>
          <p:cNvPicPr/>
          <p:nvPr/>
        </p:nvPicPr>
        <p:blipFill>
          <a:blip r:embed="rId1"/>
          <a:stretch/>
        </p:blipFill>
        <p:spPr>
          <a:xfrm>
            <a:off x="2286000" y="274680"/>
            <a:ext cx="6858000" cy="658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343040" y="380880"/>
            <a:ext cx="43434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veral  Moons  of  Jupiter  </a:t>
            </a:r>
            <a:br>
              <a:rPr sz="44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43  are  named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2" name="Picture 3" descr="moonCALLISTO"/>
          <p:cNvPicPr/>
          <p:nvPr/>
        </p:nvPicPr>
        <p:blipFill>
          <a:blip r:embed="rId1"/>
          <a:stretch/>
        </p:blipFill>
        <p:spPr>
          <a:xfrm>
            <a:off x="380880" y="685800"/>
            <a:ext cx="2171880" cy="15811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914400" y="251460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lli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5" descr="moonEUROPA"/>
          <p:cNvPicPr/>
          <p:nvPr/>
        </p:nvPicPr>
        <p:blipFill>
          <a:blip r:embed="rId2"/>
          <a:stretch/>
        </p:blipFill>
        <p:spPr>
          <a:xfrm>
            <a:off x="3581280" y="2819520"/>
            <a:ext cx="2009880" cy="163836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6"/>
          <p:cNvSpPr/>
          <p:nvPr/>
        </p:nvSpPr>
        <p:spPr>
          <a:xfrm>
            <a:off x="4038480" y="4495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urop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7" descr="moonGANYMEDE"/>
          <p:cNvPicPr/>
          <p:nvPr/>
        </p:nvPicPr>
        <p:blipFill>
          <a:blip r:embed="rId3"/>
          <a:stretch/>
        </p:blipFill>
        <p:spPr>
          <a:xfrm>
            <a:off x="7010280" y="4191120"/>
            <a:ext cx="1800360" cy="15494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8"/>
          <p:cNvSpPr/>
          <p:nvPr/>
        </p:nvSpPr>
        <p:spPr>
          <a:xfrm>
            <a:off x="7086600" y="57913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anyme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9" descr="moonAMALTHEA"/>
          <p:cNvPicPr/>
          <p:nvPr/>
        </p:nvPicPr>
        <p:blipFill>
          <a:blip r:embed="rId4"/>
          <a:stretch/>
        </p:blipFill>
        <p:spPr>
          <a:xfrm>
            <a:off x="762120" y="4343400"/>
            <a:ext cx="1390680" cy="981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0"/>
          <p:cNvSpPr/>
          <p:nvPr/>
        </p:nvSpPr>
        <p:spPr>
          <a:xfrm>
            <a:off x="685800" y="548640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alth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aturn --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view  from  Hubbl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1" name="Picture 3" descr="Saturn Hubble"/>
          <p:cNvPicPr/>
          <p:nvPr/>
        </p:nvPicPr>
        <p:blipFill>
          <a:blip r:embed="rId1"/>
          <a:stretch/>
        </p:blipFill>
        <p:spPr>
          <a:xfrm>
            <a:off x="0" y="1739880"/>
            <a:ext cx="9144000" cy="511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228240" y="6858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aturn: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infrared  im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3" descr="Saturn-IR"/>
          <p:cNvPicPr/>
          <p:nvPr/>
        </p:nvPicPr>
        <p:blipFill>
          <a:blip r:embed="rId1"/>
          <a:stretch/>
        </p:blipFill>
        <p:spPr>
          <a:xfrm>
            <a:off x="457200" y="1676520"/>
            <a:ext cx="7924680" cy="489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oyager  spacecraf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5" name="Picture 3" descr="voyager"/>
          <p:cNvPicPr/>
          <p:nvPr/>
        </p:nvPicPr>
        <p:blipFill>
          <a:blip r:embed="rId1"/>
          <a:stretch/>
        </p:blipFill>
        <p:spPr>
          <a:xfrm>
            <a:off x="1752480" y="2362320"/>
            <a:ext cx="554364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-rings  of  Satur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7" name="Picture 3" descr="Saturn B-ring"/>
          <p:cNvPicPr/>
          <p:nvPr/>
        </p:nvPicPr>
        <p:blipFill>
          <a:blip r:embed="rId1"/>
          <a:stretch/>
        </p:blipFill>
        <p:spPr>
          <a:xfrm>
            <a:off x="838080" y="2057400"/>
            <a:ext cx="7365960" cy="31813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2743200" y="556272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rom  Voyager  Nov. 200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steroids   Gaspra  &amp;  Id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0" name="Picture 3" descr="gaspra"/>
          <p:cNvPicPr/>
          <p:nvPr/>
        </p:nvPicPr>
        <p:blipFill>
          <a:blip r:embed="rId1"/>
          <a:stretch/>
        </p:blipFill>
        <p:spPr>
          <a:xfrm>
            <a:off x="228600" y="152388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Ida&amp;moon"/>
          <p:cNvPicPr/>
          <p:nvPr/>
        </p:nvPicPr>
        <p:blipFill>
          <a:blip r:embed="rId2"/>
          <a:stretch/>
        </p:blipFill>
        <p:spPr>
          <a:xfrm>
            <a:off x="4267080" y="3581280"/>
            <a:ext cx="3733920" cy="280044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8077320" y="48006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on, Dacty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Line 6"/>
          <p:cNvSpPr/>
          <p:nvPr/>
        </p:nvSpPr>
        <p:spPr>
          <a:xfrm flipH="1">
            <a:off x="7543800" y="51055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Line 7"/>
          <p:cNvSpPr/>
          <p:nvPr/>
        </p:nvSpPr>
        <p:spPr>
          <a:xfrm flipH="1">
            <a:off x="3429000" y="1447920"/>
            <a:ext cx="137160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Line 8"/>
          <p:cNvSpPr/>
          <p:nvPr/>
        </p:nvSpPr>
        <p:spPr>
          <a:xfrm flipH="1">
            <a:off x="5943600" y="1371600"/>
            <a:ext cx="1295280" cy="2819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25192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ranu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7" name="Picture 3" descr="uranus_uniform"/>
          <p:cNvPicPr/>
          <p:nvPr/>
        </p:nvPicPr>
        <p:blipFill>
          <a:blip r:embed="rId1"/>
          <a:stretch/>
        </p:blipFill>
        <p:spPr>
          <a:xfrm>
            <a:off x="3657600" y="1066680"/>
            <a:ext cx="4952880" cy="49532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4"/>
          <p:cNvSpPr/>
          <p:nvPr/>
        </p:nvSpPr>
        <p:spPr>
          <a:xfrm>
            <a:off x="1219320" y="518148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Ultra-violet pho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1219320" y="2819520"/>
            <a:ext cx="1143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Giant  gas  pla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486400" y="380520"/>
            <a:ext cx="36576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s Global Surveyor (MG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96  to 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40,000  pho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3" descr="mgs-mid-size"/>
          <p:cNvPicPr/>
          <p:nvPr/>
        </p:nvPicPr>
        <p:blipFill>
          <a:blip r:embed="rId1"/>
          <a:stretch/>
        </p:blipFill>
        <p:spPr>
          <a:xfrm>
            <a:off x="0" y="228600"/>
            <a:ext cx="5334120" cy="619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ubble  Space  Telescop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1" name="Picture 3" descr="hubblestlitho60"/>
          <p:cNvPicPr/>
          <p:nvPr/>
        </p:nvPicPr>
        <p:blipFill>
          <a:blip r:embed="rId1"/>
          <a:stretch/>
        </p:blipFill>
        <p:spPr>
          <a:xfrm>
            <a:off x="2438280" y="1787400"/>
            <a:ext cx="6705720" cy="50706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4"/>
          <p:cNvSpPr/>
          <p:nvPr/>
        </p:nvSpPr>
        <p:spPr>
          <a:xfrm>
            <a:off x="685800" y="533412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Taken  from shuttle after deploy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5" descr="MCj00829910000[1]"/>
          <p:cNvPicPr/>
          <p:nvPr/>
        </p:nvPicPr>
        <p:blipFill>
          <a:blip r:embed="rId2"/>
          <a:stretch/>
        </p:blipFill>
        <p:spPr>
          <a:xfrm rot="20060400">
            <a:off x="0" y="2514600"/>
            <a:ext cx="1852560" cy="166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04920" y="380880"/>
            <a:ext cx="37339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ptu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5" name="Picture 3" descr="neptune_gds"/>
          <p:cNvPicPr/>
          <p:nvPr/>
        </p:nvPicPr>
        <p:blipFill>
          <a:blip r:embed="rId1"/>
          <a:stretch/>
        </p:blipFill>
        <p:spPr>
          <a:xfrm>
            <a:off x="2884320" y="0"/>
            <a:ext cx="625968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685800" y="281952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Another giant  gas  pla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Neptune-dbl"/>
          <p:cNvPicPr/>
          <p:nvPr/>
        </p:nvPicPr>
        <p:blipFill>
          <a:blip r:embed="rId1"/>
          <a:stretch/>
        </p:blipFill>
        <p:spPr>
          <a:xfrm>
            <a:off x="0" y="1778040"/>
            <a:ext cx="9144000" cy="507996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3"/>
          <p:cNvSpPr/>
          <p:nvPr/>
        </p:nvSpPr>
        <p:spPr>
          <a:xfrm>
            <a:off x="1447920" y="53352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ptune  from  Mariner  Spacecra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Line 4"/>
          <p:cNvSpPr/>
          <p:nvPr/>
        </p:nvSpPr>
        <p:spPr>
          <a:xfrm flipH="1" flipV="1">
            <a:off x="2361960" y="4800240"/>
            <a:ext cx="2057400" cy="76212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Line 5"/>
          <p:cNvSpPr/>
          <p:nvPr/>
        </p:nvSpPr>
        <p:spPr>
          <a:xfrm flipV="1">
            <a:off x="4419720" y="4723920"/>
            <a:ext cx="2057400" cy="83844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ouds  above  Neptu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2" name="Picture 3" descr="neptune_clouds"/>
          <p:cNvPicPr/>
          <p:nvPr/>
        </p:nvPicPr>
        <p:blipFill>
          <a:blip r:embed="rId1"/>
          <a:stretch/>
        </p:blipFill>
        <p:spPr>
          <a:xfrm>
            <a:off x="2666880" y="1600200"/>
            <a:ext cx="396108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iton --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one  of  Neptune’s  moo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4" name="Picture 3" descr="triton_close"/>
          <p:cNvPicPr/>
          <p:nvPr/>
        </p:nvPicPr>
        <p:blipFill>
          <a:blip r:embed="rId1"/>
          <a:stretch/>
        </p:blipFill>
        <p:spPr>
          <a:xfrm>
            <a:off x="3124080" y="2666880"/>
            <a:ext cx="2895840" cy="242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285640" y="304920"/>
            <a:ext cx="3962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ptune  N-r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Picture 3" descr="Neptune-N-rings"/>
          <p:cNvPicPr/>
          <p:nvPr/>
        </p:nvPicPr>
        <p:blipFill>
          <a:blip r:embed="rId1"/>
          <a:stretch/>
        </p:blipFill>
        <p:spPr>
          <a:xfrm>
            <a:off x="690480" y="1386000"/>
            <a:ext cx="7763040" cy="40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luto   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 photograph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8" name="Picture 3" descr="hst_pluto2"/>
          <p:cNvPicPr/>
          <p:nvPr/>
        </p:nvPicPr>
        <p:blipFill>
          <a:blip r:embed="rId1"/>
          <a:stretch/>
        </p:blipFill>
        <p:spPr>
          <a:xfrm>
            <a:off x="1371600" y="2133720"/>
            <a:ext cx="6858000" cy="419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luto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nd  its  satellite,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Char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0" name="Picture 3" descr="hst_pluto_charon"/>
          <p:cNvPicPr/>
          <p:nvPr/>
        </p:nvPicPr>
        <p:blipFill>
          <a:blip r:embed="rId1"/>
          <a:stretch/>
        </p:blipFill>
        <p:spPr>
          <a:xfrm>
            <a:off x="-152280" y="2023920"/>
            <a:ext cx="9296280" cy="4834080"/>
          </a:xfrm>
          <a:prstGeom prst="rect">
            <a:avLst/>
          </a:prstGeom>
          <a:ln w="0">
            <a:noFill/>
          </a:ln>
        </p:spPr>
      </p:pic>
      <p:sp>
        <p:nvSpPr>
          <p:cNvPr id="181" name="Line 4"/>
          <p:cNvSpPr/>
          <p:nvPr/>
        </p:nvSpPr>
        <p:spPr>
          <a:xfrm>
            <a:off x="7620120" y="1371600"/>
            <a:ext cx="0" cy="1676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Line 5"/>
          <p:cNvSpPr/>
          <p:nvPr/>
        </p:nvSpPr>
        <p:spPr>
          <a:xfrm>
            <a:off x="1371600" y="1447920"/>
            <a:ext cx="0" cy="3429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2"/>
          <p:cNvSpPr txBox="1"/>
          <p:nvPr/>
        </p:nvSpPr>
        <p:spPr>
          <a:xfrm>
            <a:off x="1981080" y="1828800"/>
            <a:ext cx="388620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he 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184" name="Picture 3" descr="j0301076"/>
          <p:cNvPicPr/>
          <p:nvPr/>
        </p:nvPicPr>
        <p:blipFill>
          <a:blip r:embed="rId1"/>
          <a:stretch/>
        </p:blipFill>
        <p:spPr>
          <a:xfrm rot="447600">
            <a:off x="5943240" y="44956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MCj03189040000[1]"/>
          <p:cNvPicPr/>
          <p:nvPr/>
        </p:nvPicPr>
        <p:blipFill>
          <a:blip r:embed="rId2"/>
          <a:stretch/>
        </p:blipFill>
        <p:spPr>
          <a:xfrm rot="20212800">
            <a:off x="6934320" y="685440"/>
            <a:ext cx="1823760" cy="1790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MCj04105950000[1]"/>
          <p:cNvPicPr/>
          <p:nvPr/>
        </p:nvPicPr>
        <p:blipFill>
          <a:blip r:embed="rId3"/>
          <a:stretch/>
        </p:blipFill>
        <p:spPr>
          <a:xfrm rot="21126600">
            <a:off x="457200" y="228240"/>
            <a:ext cx="2160720" cy="20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981080"/>
            <a:ext cx="32767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rs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hotograph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Picture 3" descr="hst_Mars"/>
          <p:cNvPicPr/>
          <p:nvPr/>
        </p:nvPicPr>
        <p:blipFill>
          <a:blip r:embed="rId1"/>
          <a:stretch/>
        </p:blipFill>
        <p:spPr>
          <a:xfrm>
            <a:off x="3287880" y="609480"/>
            <a:ext cx="5856120" cy="586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hst_mars_4"/>
          <p:cNvPicPr/>
          <p:nvPr/>
        </p:nvPicPr>
        <p:blipFill>
          <a:blip r:embed="rId1"/>
          <a:stretch/>
        </p:blipFill>
        <p:spPr>
          <a:xfrm>
            <a:off x="0" y="679320"/>
            <a:ext cx="9144000" cy="61786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"/>
          <p:cNvSpPr/>
          <p:nvPr/>
        </p:nvSpPr>
        <p:spPr>
          <a:xfrm>
            <a:off x="2438280" y="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  views  of  su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40384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0" name="Picture 3" descr="viking_lander_model"/>
          <p:cNvPicPr/>
          <p:nvPr/>
        </p:nvPicPr>
        <p:blipFill>
          <a:blip r:embed="rId1"/>
          <a:stretch/>
        </p:blipFill>
        <p:spPr>
          <a:xfrm>
            <a:off x="380880" y="3124080"/>
            <a:ext cx="2438640" cy="1511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vikinglander1-1small"/>
          <p:cNvPicPr/>
          <p:nvPr/>
        </p:nvPicPr>
        <p:blipFill>
          <a:blip r:embed="rId2"/>
          <a:stretch/>
        </p:blipFill>
        <p:spPr>
          <a:xfrm>
            <a:off x="4343400" y="1676520"/>
            <a:ext cx="4822920" cy="49528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 rot="20091000">
            <a:off x="533880" y="510516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Viking  Spacecraft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5943600" y="2743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9 June 197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20720" y="228240"/>
            <a:ext cx="49658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rs  surfa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5" name="Picture 3" descr="marspath_sol30s55"/>
          <p:cNvPicPr/>
          <p:nvPr/>
        </p:nvPicPr>
        <p:blipFill>
          <a:blip r:embed="rId1"/>
          <a:stretch/>
        </p:blipFill>
        <p:spPr>
          <a:xfrm>
            <a:off x="4724280" y="2554200"/>
            <a:ext cx="4114800" cy="4017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marspath_sol65"/>
          <p:cNvPicPr/>
          <p:nvPr/>
        </p:nvPicPr>
        <p:blipFill>
          <a:blip r:embed="rId2"/>
          <a:stretch/>
        </p:blipFill>
        <p:spPr>
          <a:xfrm>
            <a:off x="152280" y="1905120"/>
            <a:ext cx="3505320" cy="339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lympus Mons</a:t>
            </a:r>
            <a:br>
              <a:rPr sz="44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argest  volcano  in  solar  syste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8" name="Picture 3" descr="olympus_mons"/>
          <p:cNvPicPr/>
          <p:nvPr/>
        </p:nvPicPr>
        <p:blipFill>
          <a:blip r:embed="rId1"/>
          <a:stretch/>
        </p:blipFill>
        <p:spPr>
          <a:xfrm>
            <a:off x="2209680" y="1981080"/>
            <a:ext cx="5029200" cy="465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980720" y="5562720"/>
            <a:ext cx="49532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D generated im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Picture 3" descr="Olympus3D"/>
          <p:cNvPicPr/>
          <p:nvPr/>
        </p:nvPicPr>
        <p:blipFill>
          <a:blip r:embed="rId1"/>
          <a:stretch/>
        </p:blipFill>
        <p:spPr>
          <a:xfrm>
            <a:off x="1676520" y="0"/>
            <a:ext cx="5638680" cy="56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Valles  Marinesi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2" name="Picture 3" descr="vallesmarineris3500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23" name="Line 4"/>
          <p:cNvSpPr/>
          <p:nvPr/>
        </p:nvSpPr>
        <p:spPr>
          <a:xfrm>
            <a:off x="152280" y="5867280"/>
            <a:ext cx="86868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3276720" y="5943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,200 k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31T06:49:45Z</dcterms:created>
  <dc:creator>Ben Zalewski</dc:creator>
  <dc:description>Part 2 of Solar System</dc:description>
  <cp:keywords>Part 2 of Solar System</cp:keywords>
  <dc:language>en-US</dc:language>
  <cp:lastModifiedBy>RomaK</cp:lastModifiedBy>
  <dcterms:modified xsi:type="dcterms:W3CDTF">2015-08-01T07:03:33Z</dcterms:modified>
  <cp:revision>11</cp:revision>
  <dc:subject>Part 2 of Solar System</dc:subject>
  <dc:title>Part 2 of Solar System</dc:title>
</cp:coreProperties>
</file>